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075-EF00-4E55-A92A-1B661393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812-83CA-47A6-A59A-4D8DCD28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F9437-37CF-4632-BF28-8AE78EE0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2FF8D-639E-405E-A695-EABC3367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8CF9C-5FE7-4DA8-B3B3-42834C18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0A0C8-B66E-4873-AA01-3B999563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CBDCE-0ACB-499F-B89C-F31C23E9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79AFA-0719-4389-A479-4580DE9B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ED586-5A11-416A-ABB1-65DED999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3776D-273C-403D-AB74-FD5CA986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728DC-76F6-480E-AC36-8A3A1AD8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8AA47-C13A-4BF3-B276-CAD4F62E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082F-7E48-4E0F-AF5F-649BA3EE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8EAA4-B5C9-4948-958E-78FAB7BC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775B2-0F3F-4102-8BD5-85ECFAF2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9A9D1-FD58-4FCE-90C2-04BE93FF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D5190-B62C-4CE1-8FD0-FEB04BF1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17852-E149-4F32-A4FB-9927B65E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E7546-8EA7-49F9-B825-95A8F17E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22B48-08B7-4953-96FC-D7496862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B22E8-EDD5-495D-A755-3E82EB18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D5CDA-1222-432B-A446-05FD0F28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54A83-17FA-4A7D-B145-4A13F0D5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C5A7-CDE5-4B5F-B2ED-650D649D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8E385-C6BC-4D42-8083-B6935832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4780B-AD1F-4566-924E-64B6CDD1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D186E-7AA9-4208-9D95-5F776E96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15178-B9A7-4406-9BCE-E88B3C88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C5DC8-5289-4357-BA6C-355DB0CC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D9E69-35F3-4872-AF2E-A17DC1EE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67714-5DF2-4F9A-9409-07436470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E181B-4A09-4674-82B3-D6FEC21C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98AF1-87E1-4C09-9232-387B7244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6FF2D-52C9-4F2F-B369-BFA648DE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2FAF-D2E1-4519-B620-49521DBA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54AAE-5663-4385-B653-5F6B572B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0FF1A-D30B-401D-BB15-C57E45DA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C288B-8FBB-404A-AF7E-1EED2532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082D2-6B53-4B70-A0CF-0F7C9C29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87404-8C81-4B0E-83DB-31A7F52F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E054D-6E47-4C54-9DA9-29367121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5EFDE-1562-4393-9742-76FAE41A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F862A-CA76-43A2-92E5-E6745DEF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E61EB-82E4-4B1D-BB81-63A6E917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87D3A-CDD2-4678-90F9-A17335CF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5056-A097-4D85-8CDD-E6052630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A4DFA-49E7-436C-9E21-1C14C884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273B6-AC4C-444A-9D3C-82B600DC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C8834-524F-442C-959E-EA8A83D9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999B1-FAD0-4E9F-9444-CD5F3DE4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91DA2-1590-4EC2-8A1E-52035C12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78E821-E49E-4B87-974F-26747C77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01C6C-73A3-4F79-A244-F8290893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A5A532-51FD-4B25-8097-77AC4653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4530B-5385-4201-8626-BD4BFEA9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F577CA-3722-4625-A522-D8BF4C6A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1E0A-561E-4AE1-B3A7-5A804D58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5C3FF9-F1A9-4A51-BA22-59D8C775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8CE2D4-B121-44EF-B596-2AB68A05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CFDFB7-F562-4DA4-8127-1A98546D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1DE703-F98F-4EF6-9552-6A328FAD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917063-67FD-4E09-8D43-06BAF22C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9659F6-EFD1-46FF-808F-46EE952B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18BDC-A18F-4132-951A-8F93B063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9C77A7-9DE1-46BD-B46C-E0A3388D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39BCEB-94B2-4865-870C-F4CFC28A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3623B9-9864-46BB-927D-C4B1A3F1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5538-B281-40C4-94FA-3E8B868A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33CC18-52FF-4319-B9D8-205EBCD8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B4759F-20F8-4517-A998-2F146C11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DC0696-7069-43A5-93DF-B211C2BF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6BBF1E-5AD8-4D91-9A4A-8C0A1CCD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D94F4C-992C-4783-9943-E6CEF703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05B575-95B4-4E0C-A9D6-F83EC73E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F24B82-78E6-4FEB-8E0E-70E8555D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1BD638-2118-4734-990C-5816F126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764747-BE76-4DC0-8F3C-C3DFCCF0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55E65A-21C9-40C8-8BB0-CBB7EC37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891D-D8A2-4283-9D07-6E1AF882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72D96C-AB34-4029-9882-F79FB362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0A5675-3F6D-4968-B958-82552143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5E7B34-D47F-414C-9DA0-9785AF57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016C24-7B37-46FC-8C91-4BDADE06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B0E5CE-B779-4AC1-93F5-F1485158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F06638-694C-4544-A88F-5F5FF9D7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4800E3-ED21-491E-A3E4-58D89212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32160F-BC50-4930-B658-DFA573A5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484FDF-5D07-4CFB-9601-08D05787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C302F1-62D7-4FBA-AAC2-5EC7FE01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1B00-51C4-4A7B-906F-F9D1FE3B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68CD03-8D71-4DEE-8D5D-0F589B4A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5FF60D-AE83-4763-A2C0-F05F48C9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4A1DD7-F8C4-4AEF-AC2C-8EFF474F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9C5503-A7AC-469E-91D3-D6ACFC78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DFCD14-E3A3-47E4-8C0B-D4A40BDF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8A7270-3A18-49F1-ADED-9A0A4D25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17476D-BCB7-45E5-AFE0-FC18863F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07470F-29A2-4C9C-8247-1E67B5B2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7F06BC-24CF-4114-9E2D-71563CC6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13A28F-7319-48AA-B81D-E82B504D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CE4D-A638-4088-9CCD-C63A0FB7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A6C095-094E-4852-BB49-EA801233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95EA84-4FC6-4C32-8095-C92FECD6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F11B13-FCF7-4F15-B600-D8EA4C0C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698F88-6DC3-4779-9546-2EF328BF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9CBB1B-9054-41E3-ABA8-5B6E6D1B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DF59F3-2717-44FB-BF4F-08313C95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9B5625-78A0-4A4D-8D0E-178B14BF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830A74-BF16-4184-A1DE-C7286471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A01F46-D99C-4A9D-922B-40F0CBD6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D32D07-4872-4462-A47A-10AE6F6A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D5E3-BA8A-4734-A446-11B69FCD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75A3-E84C-4E9B-9330-BE473995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DFE1C5-1613-43F8-89F0-64675D1D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C4B0DD-A232-4049-A0E9-F4A345F4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A1123E-3F7E-4140-96E1-FBCEBBF6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E14241-4695-49A6-9650-00D397C2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491FDE-91E1-4153-A481-D3C4D8E4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7752DF-31AE-43CB-9738-17DEA9B1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D7A509-D705-48D4-A857-23AB4E27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238EC8-D314-4CCA-9F64-0990A5F9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019074-BAD7-4533-850E-F1C4FC5C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E83DA2-B15E-4D5D-AF52-EE849E0D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13B6-E93C-4ED5-9AA9-3BEF2313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CDF4A5-9B1E-4568-B496-055D584C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B243B3-28A5-474D-861C-784033F6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DF611E-FE46-41C1-A31B-CE5BBC8E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63D781-242E-465D-9637-6B5F8B58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2ACAC7-DEAA-40CA-BF82-30E6B501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11B9F4-BDF5-4DE0-8C05-F0B2F83B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0BC4BF-7F7C-4302-9DB8-97120BDD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67B6B5-E3E9-4F98-BCA3-A870F31D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478D7B-DCF8-417E-8B10-7FAD0577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F01EFB-76E5-4B8F-8EC6-4E8E94BD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AD9E-2753-4FAA-A9C2-32942DA7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8064CA-BEB4-4327-8257-881BC43B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D027B9-FB0D-45A5-A5B5-4C2E12C1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E9A3BE-5B8B-49AC-B176-E0DD6DED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E5D182-5151-4E62-AADC-E61A4E9A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EEF797-9A84-4552-B510-ABC2893C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8D39BB-7B3E-463A-B735-0C149C7B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F1EEA6-84DC-4107-8EF7-F10030F7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2AE21E-3F69-4D2C-B145-A0F1D61F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BC4F1D-0227-4769-9813-E664842F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B0C2B9-172C-4F77-B8D1-B1E11099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0B3E-42D2-4BA4-BD99-B7E63D0A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853E29-C96E-4078-8D69-A2C1A2D4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9863CC-FFBD-437E-AC95-63C51A4F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1CAA42-E7B4-461A-ACDB-13BECB20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64E780-D532-4135-A96E-EBCCBA0D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06F2A6-E8F3-478C-86D8-884B1B5A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ACEC8F-3A1C-4B5A-9F57-7EA039DB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1D15C7-DBB6-4265-B6BE-9FFD9410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B942B5-CDD0-461B-AE71-138B4728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3B6B9D-6E59-4D71-BE79-2FBAEB53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C4C753-4F29-434B-A501-6F0BD82F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0E37-2F92-4F7D-BAF6-FF8EF465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8CFEA0-ABB4-41CC-8393-C1D2F75F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A831A5-606F-4B26-BF32-880BF115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CDC556-6B0F-4F6F-A176-8CF8D57A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AD1348-D324-44A6-9F1D-19622511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DD9454-0E1B-4EEF-BC3C-100D6722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69EEB3-BC30-477B-81AA-D5B69B7B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2D7680-74E0-4A15-9C23-AFD25010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B34251-919D-4CBE-9B02-8273ABC2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B1A7F3-4756-4CA3-A9CD-206E3086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B5B273-AF82-4CBB-9616-1B29D7FB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5DBC8-5A18-4AAC-9586-181E05EC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942D68-DC48-4BFC-B6C3-E4827129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0797CA-6A11-4A9C-878C-1CD2B6A4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87D994-4EDB-480B-BE0C-8B26D662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E316A-928F-4338-B028-5BB13B40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C4535-1414-4EE2-B296-CA90A9F9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82EF2-5711-42D1-8E35-DDA1F91D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06DBC-661D-4E4E-BC79-A0BC3EFD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6C37-1F37-428C-8F03-51AB6A83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AE5C7-3EBD-4028-819E-74A25806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2326E-E05B-40A1-B670-3B04F39F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DDDA1-1359-406C-BF4D-8DBDC721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1F48F-8BED-432D-A986-F012147D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338F7-8F34-41A0-AB25-CAB90CEB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DC06C-AF76-4BA4-9C01-747BE353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DE94A-BD9A-4D1D-838E-62F85A63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D81F3-F623-4C31-862F-ADEBD3F3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E660E-D8D3-4E3F-B1AD-8E1DFE5E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F2B5E-1332-4A80-B7E1-B3E81338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2C7A-3262-453D-9FF5-77CE49FB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906B8-8672-4F12-91D2-A05F1634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C537A-10A8-466D-B656-0F27F475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25227-2D6E-449B-8C9F-94A3249A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29B15-17F8-4A66-BFA5-E2E95480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28977-1119-46D4-8B4B-B1A380D3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D8077-932F-4553-B44C-7A45BAE3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E4E35-B2BB-469E-B10C-375BC5D3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21B35-CB53-48B7-80FC-5929DEDE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7CC38-2CE9-46A1-AB5E-327CD165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A9022-C065-4C83-9B5C-C3287D0F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5119-042D-4444-BF36-D6910D13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BD0E8-E486-4AB5-85D1-0723E0CF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62F51-5018-4809-B169-B7944B07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82F8E-F371-46C9-AC12-475A09F9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C5E55-A4EF-4911-B569-5AD1224B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F675C-4A36-4877-932A-CF47DEC2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28314-FCC5-4647-9BBF-EF78CCB1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8C745-B932-441C-B23A-BD13E6C7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F4454-E29C-4D33-BDF3-5A21534E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18F00-20EB-45FC-ABFA-654316D4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569D9-6823-46FE-9D25-CF484180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FA41-E059-43E4-9223-9D7E7698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CEF00-0CE2-4B1C-ADE8-00A734B0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4979B-8F25-4B9D-8C76-C9DC0E1E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A63EE-A33A-48E6-A6B8-AA79BB28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F5553-3FBC-44AB-B71D-EC7D505D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2C608-2680-42F5-A2FD-198C2A1C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AC377-89BE-4F27-8E9D-B98EA84E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2146B-7A9A-4A27-84D9-42EDC3D4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D083F-71DE-4D56-93D1-0EA29137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A5972-1AC2-411E-AD3B-3CEB8C12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A60CF-B2B8-4289-A906-E428D302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D002-4D20-418A-B9F3-598D6DF8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04D9E-B090-409C-AE7C-83CE2B70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78E63-D1F2-4211-B522-1280FDE0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F161C-D90E-4DA4-9311-441E1A6A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1C1C4-AAD4-4712-A07A-0F470AD0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16FE9-66E3-4CFF-9A4A-5BBCFDA0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160F5-95CD-4C20-BD0E-EFAEABED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609EA-0B71-4F19-8F59-A7E76978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F744C-7178-4547-BA35-3CE374DF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AF96C-CD5A-46E3-889D-53B81C4A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CBF4C-7A4D-4594-A0E8-F8D4FFDC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A37D-19CA-443C-9F98-97D8AB74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F7EF9-5C89-4949-8FC0-93F0195E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A4058-A288-4AFF-825D-89FF2D5E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59FB0-F7DE-495B-8DF6-387DB684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D74BC-4132-4030-A200-3B62F8B7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1FFCC-00B2-4BDC-BDD0-D86BC823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99243-AF40-4C87-84A9-F1A2C3F2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10B64-3F93-4ABE-B402-3DAD2492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BC28A-E525-42AA-9DBB-CD8DAE86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CCBE7-2B82-4416-B443-E20DFD3A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42748-D2DE-4D34-AC43-A8CC9E1E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0D04-A763-4CB8-9844-EA7363F2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B49D2-07C5-447D-AED5-AD0825EA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3AFD1-F045-4049-94F5-C92CB269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8F862-DB2E-448A-B35F-E491D70F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9CBAC-32C6-4125-91BB-75291D8F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D3871-035B-40C1-9F20-C0D6C95D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E21BC-BBF7-4237-97E7-441EF298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791FA-43BA-4BC7-BA70-BE3100FA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E6710-8E39-4390-8283-533EF180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069FC-911C-4774-972E-6943D02D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8A379-DF92-42D6-A089-F2C16CF6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1A08-AA59-40F6-AD81-1B48D6E2B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1419-B17F-4060-85E6-070DB3B280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A117-0D78-4433-8540-5EB7791BC5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3E91-EFD1-4AF3-852C-FC5E283CB7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0D12-8D5A-4D4E-92ED-178E5D5031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48EE-04D0-4FCA-8BAE-FEA506A2EB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6483-F134-4319-B54F-044EFC3BE4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45DF-51C3-41A3-AFE1-BC39E80BC5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6529-BA82-4C6C-942E-AA3C2AB6B4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6C06-5A9A-455D-8570-40D578439B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38E1-E2A3-4852-9D6D-B671184787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9356-2B48-42DB-9481-80F085A575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6C93-56F3-46AA-85EA-7E16AF6857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ADA9-303B-4E8D-977B-FEB77EABFE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933D-D9E2-4572-BD02-43C1E75575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88B7-593C-4750-B64B-150AEEB977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F563-C75F-462E-A21F-E4CDA0BE36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3239-7C0F-47E8-8991-D38B86F793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F113-AC02-4F06-B60B-35AABA9D40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AD0E-E869-479A-97F1-D7431B33FE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08AB-73C1-464E-85D8-D1485FBE28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94C0-C381-4862-AF4B-851DC1C27D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F487-29F6-4FB6-84D6-22C79A6471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9B93-B991-4952-B7A8-06DEF43B17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E115-F13F-4CA2-BCFF-EA5A739C1C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459A-2AD7-4303-8C8E-F89E3A0FD4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9DF6-D79A-43A7-9368-93E5CBD2F3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6E5C-9A8B-4252-AD06-3A1E7B870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9DFE-3C38-4F5F-BE82-02A5ECE4C6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1C99-D0B6-4C19-AE89-B60C8DF2E2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41E6-4FD9-4893-83AD-24553F0942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D12B-734E-49D6-8A55-C4B0634DA4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952E-22FF-4CEA-9066-00BD5DEFF9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B7F7-98D7-466C-BC8C-94190F5A41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9DCD-CCB8-49BC-8B9D-886F295F8E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8B2B-3E5D-46DC-B9A6-6FEB786E20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7C15-48A1-417D-A05C-93E907D57C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2067-6A6B-427B-8F2D-6FD4CDE36E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4D68-9A85-47E8-9570-46EAA9877D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9262-ABFF-439B-A88D-31F1A63382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1066680" y="3009960"/>
            <a:ext cx="70106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3" descr=""/>
          <p:cNvPicPr/>
          <p:nvPr/>
        </p:nvPicPr>
        <p:blipFill>
          <a:blip r:embed="rId1"/>
          <a:stretch/>
        </p:blipFill>
        <p:spPr>
          <a:xfrm>
            <a:off x="461880" y="1347840"/>
            <a:ext cx="8220240" cy="416232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857160" y="3071880"/>
            <a:ext cx="42876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3" descr=""/>
          <p:cNvPicPr/>
          <p:nvPr/>
        </p:nvPicPr>
        <p:blipFill>
          <a:blip r:embed="rId1"/>
          <a:stretch/>
        </p:blipFill>
        <p:spPr>
          <a:xfrm>
            <a:off x="485640" y="1281240"/>
            <a:ext cx="8172720" cy="429552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1000080" y="128592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928800" y="3214800"/>
            <a:ext cx="42840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"/>
          <p:cNvPicPr/>
          <p:nvPr/>
        </p:nvPicPr>
        <p:blipFill>
          <a:blip r:embed="rId1"/>
          <a:stretch/>
        </p:blipFill>
        <p:spPr>
          <a:xfrm>
            <a:off x="442800" y="1247760"/>
            <a:ext cx="8258400" cy="4362480"/>
          </a:xfrm>
          <a:prstGeom prst="rect">
            <a:avLst/>
          </a:prstGeom>
          <a:ln w="0">
            <a:noFill/>
          </a:ln>
        </p:spPr>
      </p:pic>
      <p:sp>
        <p:nvSpPr>
          <p:cNvPr id="1029" name="矩形 2"/>
          <p:cNvSpPr/>
          <p:nvPr/>
        </p:nvSpPr>
        <p:spPr>
          <a:xfrm>
            <a:off x="1000080" y="128592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3"/>
          <p:cNvSpPr/>
          <p:nvPr/>
        </p:nvSpPr>
        <p:spPr>
          <a:xfrm>
            <a:off x="928800" y="4214880"/>
            <a:ext cx="42840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8343720" cy="30672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2"/>
          <a:stretch/>
        </p:blipFill>
        <p:spPr>
          <a:xfrm>
            <a:off x="571680" y="4071960"/>
            <a:ext cx="8153280" cy="2038320"/>
          </a:xfrm>
          <a:prstGeom prst="rect">
            <a:avLst/>
          </a:prstGeom>
          <a:ln w="0">
            <a:noFill/>
          </a:ln>
        </p:spPr>
      </p:pic>
      <p:sp>
        <p:nvSpPr>
          <p:cNvPr id="1033" name="矩形 3"/>
          <p:cNvSpPr/>
          <p:nvPr/>
        </p:nvSpPr>
        <p:spPr>
          <a:xfrm>
            <a:off x="2332080" y="2014560"/>
            <a:ext cx="131112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>
            <a:off x="5643720" y="2617920"/>
            <a:ext cx="1500120" cy="342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2786040" y="4214880"/>
            <a:ext cx="1500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6108840" y="5180040"/>
            <a:ext cx="1000080" cy="374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7"/>
          <p:cNvSpPr/>
          <p:nvPr/>
        </p:nvSpPr>
        <p:spPr>
          <a:xfrm>
            <a:off x="2928960" y="5689440"/>
            <a:ext cx="1214280" cy="343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476280" y="1038240"/>
            <a:ext cx="8191440" cy="4781520"/>
          </a:xfrm>
          <a:prstGeom prst="rect">
            <a:avLst/>
          </a:prstGeom>
          <a:ln w="0">
            <a:noFill/>
          </a:ln>
        </p:spPr>
      </p:pic>
      <p:sp>
        <p:nvSpPr>
          <p:cNvPr id="1039" name="矩形 2"/>
          <p:cNvSpPr/>
          <p:nvPr/>
        </p:nvSpPr>
        <p:spPr>
          <a:xfrm>
            <a:off x="4106880" y="1511280"/>
            <a:ext cx="1500120" cy="343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3"/>
          <p:cNvSpPr/>
          <p:nvPr/>
        </p:nvSpPr>
        <p:spPr>
          <a:xfrm>
            <a:off x="2143080" y="2500200"/>
            <a:ext cx="1071720" cy="343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4"/>
          <p:cNvSpPr/>
          <p:nvPr/>
        </p:nvSpPr>
        <p:spPr>
          <a:xfrm>
            <a:off x="3500280" y="3489480"/>
            <a:ext cx="714600" cy="328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5"/>
          <p:cNvSpPr/>
          <p:nvPr/>
        </p:nvSpPr>
        <p:spPr>
          <a:xfrm>
            <a:off x="3311640" y="3943440"/>
            <a:ext cx="114300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6"/>
          <p:cNvSpPr/>
          <p:nvPr/>
        </p:nvSpPr>
        <p:spPr>
          <a:xfrm>
            <a:off x="4714920" y="4929120"/>
            <a:ext cx="1285920" cy="343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3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210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2" descr=""/>
          <p:cNvPicPr/>
          <p:nvPr/>
        </p:nvPicPr>
        <p:blipFill>
          <a:blip r:embed="rId1"/>
          <a:stretch/>
        </p:blipFill>
        <p:spPr>
          <a:xfrm>
            <a:off x="452520" y="1271520"/>
            <a:ext cx="8238960" cy="4314960"/>
          </a:xfrm>
          <a:prstGeom prst="rect">
            <a:avLst/>
          </a:prstGeom>
          <a:ln w="0">
            <a:noFill/>
          </a:ln>
        </p:spPr>
      </p:pic>
      <p:sp>
        <p:nvSpPr>
          <p:cNvPr id="1046" name="矩形 2"/>
          <p:cNvSpPr/>
          <p:nvPr/>
        </p:nvSpPr>
        <p:spPr>
          <a:xfrm>
            <a:off x="928800" y="2786040"/>
            <a:ext cx="428400" cy="343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3"/>
          <p:cNvSpPr/>
          <p:nvPr/>
        </p:nvSpPr>
        <p:spPr>
          <a:xfrm>
            <a:off x="928800" y="3714840"/>
            <a:ext cx="428400" cy="342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4"/>
          <p:cNvSpPr/>
          <p:nvPr/>
        </p:nvSpPr>
        <p:spPr>
          <a:xfrm>
            <a:off x="928800" y="4643280"/>
            <a:ext cx="428400" cy="343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857160" y="1071720"/>
            <a:ext cx="7962840" cy="5438520"/>
          </a:xfrm>
          <a:prstGeom prst="rect">
            <a:avLst/>
          </a:prstGeom>
          <a:ln w="0">
            <a:noFill/>
          </a:ln>
        </p:spPr>
      </p:pic>
      <p:sp>
        <p:nvSpPr>
          <p:cNvPr id="1050" name="矩形 2"/>
          <p:cNvSpPr/>
          <p:nvPr/>
        </p:nvSpPr>
        <p:spPr>
          <a:xfrm>
            <a:off x="1214280" y="1071720"/>
            <a:ext cx="428760" cy="342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3"/>
          <p:cNvSpPr/>
          <p:nvPr/>
        </p:nvSpPr>
        <p:spPr>
          <a:xfrm>
            <a:off x="1214280" y="1571760"/>
            <a:ext cx="428760" cy="342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4"/>
          <p:cNvSpPr/>
          <p:nvPr/>
        </p:nvSpPr>
        <p:spPr>
          <a:xfrm>
            <a:off x="1214280" y="2071800"/>
            <a:ext cx="428760" cy="342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5"/>
          <p:cNvSpPr/>
          <p:nvPr/>
        </p:nvSpPr>
        <p:spPr>
          <a:xfrm>
            <a:off x="1214280" y="3071880"/>
            <a:ext cx="428760" cy="342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6"/>
          <p:cNvSpPr/>
          <p:nvPr/>
        </p:nvSpPr>
        <p:spPr>
          <a:xfrm>
            <a:off x="1214280" y="4000680"/>
            <a:ext cx="428760" cy="342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7"/>
          <p:cNvSpPr/>
          <p:nvPr/>
        </p:nvSpPr>
        <p:spPr>
          <a:xfrm>
            <a:off x="1214280" y="4429080"/>
            <a:ext cx="428760" cy="343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8"/>
          <p:cNvSpPr/>
          <p:nvPr/>
        </p:nvSpPr>
        <p:spPr>
          <a:xfrm>
            <a:off x="1214280" y="5500800"/>
            <a:ext cx="428760" cy="342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8:16:3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